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E725-00D8-4832-8130-801F09D9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C9E-1FA0-4B43-A19D-1A731224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11A2-4F9E-4901-A0B2-0D07473F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210-7E66-40DD-B1B1-92C983B2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C23-5B09-4746-ADC7-6594E3C3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AC1-09E2-4929-AA11-CB008D7F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F35-630A-42FC-81BF-52B32780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D5D-1B47-4EC1-A939-C5DF7651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5B5-5BAD-42B1-8FE4-A5760041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C70-F33C-4B5D-BB7B-7EE82526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D3F-591E-4EA1-972B-AE07BC3F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9E5-0D60-413D-AADC-F14A3B1E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1F28-FB37-4EAD-B9A6-8E6FEAA6F3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月も引続き売上予算を達成し、順調に推移してきている。下期では上期と比較し、全体の業績が改善してきていると見受けられ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5222880"/>
          </a:xfrm>
          <a:prstGeom prst="rect">
            <a:avLst/>
          </a:prstGeom>
          <a:ln w="0">
            <a:noFill/>
          </a:ln>
        </p:spPr>
      </p:pic>
      <p:sp>
        <p:nvSpPr>
          <p:cNvPr id="43" name="直線コネクタ 5"/>
          <p:cNvSpPr/>
          <p:nvPr/>
        </p:nvSpPr>
        <p:spPr>
          <a:xfrm flipH="1">
            <a:off x="1258920" y="3270240"/>
            <a:ext cx="684216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05:34:49Z</dcterms:created>
  <dc:creator>Gihyo</dc:creator>
  <dc:description/>
  <dc:language>en-US</dc:language>
  <cp:lastModifiedBy>Gihyo</cp:lastModifiedBy>
  <dcterms:modified xsi:type="dcterms:W3CDTF">2010-09-14T03:41:17Z</dcterms:modified>
  <cp:revision>2</cp:revision>
  <dc:subject/>
  <dc:title>11月も引続き売上予算を達成し、順調に推移してきている。下期では上期と比較し、全体の業績が改善してきていると見受けられる</dc:title>
</cp:coreProperties>
</file>