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180-6ECC-4D2E-8B66-DE99F7BB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99D-BCCF-48CA-A88A-B6B7A63F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0B9-C8C0-450F-BE25-258D979E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5BA-1ED8-423F-87F2-EAB7891A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866-BF38-403E-8020-20F63443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7DC-27B7-4E6E-9AE8-4DEFA1AA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ACF-1FBA-4D9B-B05D-36620563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781-D161-40C5-82A8-3746069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04E-E432-4901-B2F0-B8101D71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66E-8A38-41A9-959A-28EAF28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A9E-8922-44D9-8E72-2538E1A1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481-C380-42D0-82F4-3AEFCA8E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A3B2-BE6F-4CED-8269-2CA56F1B6A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会社全体の営業利益は伸びてきているものの、酒類事業部の落ち込みが大きい。詳細な状況を確認し、対応策を即時に検討する必要がある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また、食品事業部の伸びが著しく、積極的な投資を考えていくべ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7416720" cy="5317920"/>
          </a:xfrm>
          <a:prstGeom prst="rect">
            <a:avLst/>
          </a:prstGeom>
          <a:ln w="0">
            <a:noFill/>
          </a:ln>
        </p:spPr>
      </p:pic>
      <p:sp>
        <p:nvSpPr>
          <p:cNvPr id="43" name="下矢印 4"/>
          <p:cNvSpPr/>
          <p:nvPr/>
        </p:nvSpPr>
        <p:spPr>
          <a:xfrm>
            <a:off x="324000" y="1844640"/>
            <a:ext cx="1008000" cy="4753080"/>
          </a:xfrm>
          <a:prstGeom prst="downArrow">
            <a:avLst>
              <a:gd name="adj1" fmla="val 72324"/>
              <a:gd name="adj2" fmla="val 5001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179280" y="2421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15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角丸四角形 7"/>
          <p:cNvSpPr/>
          <p:nvPr/>
        </p:nvSpPr>
        <p:spPr>
          <a:xfrm>
            <a:off x="179280" y="3213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28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8"/>
          <p:cNvSpPr/>
          <p:nvPr/>
        </p:nvSpPr>
        <p:spPr>
          <a:xfrm>
            <a:off x="179280" y="4005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4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角丸四角形 9"/>
          <p:cNvSpPr/>
          <p:nvPr/>
        </p:nvSpPr>
        <p:spPr>
          <a:xfrm>
            <a:off x="179280" y="4797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6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角丸四角形 10"/>
          <p:cNvSpPr/>
          <p:nvPr/>
        </p:nvSpPr>
        <p:spPr>
          <a:xfrm>
            <a:off x="179280" y="558972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79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0:20:58Z</dcterms:created>
  <dc:creator>Gihyo</dc:creator>
  <dc:description/>
  <dc:language>en-US</dc:language>
  <cp:lastModifiedBy>Gihyo</cp:lastModifiedBy>
  <dcterms:modified xsi:type="dcterms:W3CDTF">2010-09-14T03:44:55Z</dcterms:modified>
  <cp:revision>2</cp:revision>
  <dc:subject/>
  <dc:title>会社全体の営業利益は伸びてきているものの、酒類事業部の落ち込みが大きい。詳細な状況を確認し、対応策を即時に検討する必要がある。 また、食品事業部の伸びが著しく、積極的な投資を考えていくべき。</dc:title>
</cp:coreProperties>
</file>