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C66-BD7F-4398-9BFF-23FC8BF4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EEC-CA09-4F85-9A54-D258050F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84C-948D-42F7-B7C3-DF5D8470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F5C-0195-486F-918B-E21869E0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3DC-A740-44BF-8208-ACDEBF9D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9DE-C4CD-4B55-9768-3B5100A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F5D-FFF6-45CE-BA95-D55C4C94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CF4-1B34-4C59-B33C-8CC7427F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70C-F1F2-447A-B257-9A2BF147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540-E759-41C0-A047-CF1684B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C89-F9DA-4755-AAAC-773C7E2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C7F-576E-4100-A801-153B26D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C98-F9FF-4023-B94D-906BB01221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顧客満足度のアンケート調査結果から、今回の新製品導入にあたり、改善すべき項目は、次の３項目となる。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①デザインの改善（３製品全て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②味の見直し（スイート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の変更（ビター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タイトル 3"/>
          <p:cNvSpPr/>
          <p:nvPr/>
        </p:nvSpPr>
        <p:spPr>
          <a:xfrm>
            <a:off x="803160" y="5084640"/>
            <a:ext cx="2016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タンダード」は、デザイ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3"/>
          <p:cNvSpPr/>
          <p:nvPr/>
        </p:nvSpPr>
        <p:spPr>
          <a:xfrm>
            <a:off x="3379680" y="5103720"/>
            <a:ext cx="2160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イート」は、デザインと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タイトル 3"/>
          <p:cNvSpPr/>
          <p:nvPr/>
        </p:nvSpPr>
        <p:spPr>
          <a:xfrm>
            <a:off x="6012000" y="5111640"/>
            <a:ext cx="2160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ビター」は、デザイン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77960" y="2421000"/>
            <a:ext cx="214956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3397320" y="2435400"/>
            <a:ext cx="2149560" cy="247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6040440" y="2436840"/>
            <a:ext cx="21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9:36:33Z</dcterms:created>
  <dc:creator>Gihyo</dc:creator>
  <dc:description/>
  <dc:language>en-US</dc:language>
  <cp:lastModifiedBy>Gihyo</cp:lastModifiedBy>
  <dcterms:modified xsi:type="dcterms:W3CDTF">2010-09-14T03:30:20Z</dcterms:modified>
  <cp:revision>2</cp:revision>
  <dc:subject/>
  <dc:title>顧客満足度のアンケート調査結果から、今回の新製品導入にあたり、改善すべき項目は、次の３項目となる。 ①デザインの改善（３製品全て） ②味の見直し（スイート） ③CMの変更（ビター）</dc:title>
</cp:coreProperties>
</file>