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953-E0EF-4DCB-A514-6931B09F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0C1-2C8C-42B2-8280-8B71E1D1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03E-B1E4-400B-8E9C-2C07D862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76B-E3AC-47A1-811B-28461732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78D-483B-4E12-BB21-FF64CFF3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255-7BF0-4A1D-9F4D-C2716B64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C27-7560-4F2E-AD77-E0394EA3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57B-18B3-44BE-8B8A-E340359C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45E-EF19-4A8F-9693-96ED4F32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176-F2B2-4312-84A4-A86859C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160-7117-4571-8E07-2484A78D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FED-D4EE-455F-BA3D-9D5BE0CA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6908-6E0A-41F3-A06A-F76EE4FCBD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自転車用品事業部の売上は上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つの販売店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をカバーしているため、こ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つの販売店に絞って販促を実施す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68360" y="1270080"/>
            <a:ext cx="8280360" cy="5411880"/>
          </a:xfrm>
          <a:prstGeom prst="rect">
            <a:avLst/>
          </a:prstGeom>
          <a:ln w="0">
            <a:noFill/>
          </a:ln>
        </p:spPr>
      </p:pic>
      <p:sp>
        <p:nvSpPr>
          <p:cNvPr id="43" name="角丸四角形 4"/>
          <p:cNvSpPr/>
          <p:nvPr/>
        </p:nvSpPr>
        <p:spPr>
          <a:xfrm>
            <a:off x="900000" y="5589720"/>
            <a:ext cx="180036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1187280" y="1835280"/>
            <a:ext cx="151308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7"/>
          <p:cNvSpPr/>
          <p:nvPr/>
        </p:nvSpPr>
        <p:spPr>
          <a:xfrm>
            <a:off x="2700360" y="3792600"/>
            <a:ext cx="93492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8"/>
          <p:cNvSpPr/>
          <p:nvPr/>
        </p:nvSpPr>
        <p:spPr>
          <a:xfrm>
            <a:off x="3635280" y="4797360"/>
            <a:ext cx="3384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23:12:26Z</dcterms:created>
  <dc:creator>Gihyo</dc:creator>
  <dc:description/>
  <dc:language>en-US</dc:language>
  <cp:lastModifiedBy>Gihyo</cp:lastModifiedBy>
  <dcterms:modified xsi:type="dcterms:W3CDTF">2010-09-14T03:20:15Z</dcterms:modified>
  <cp:revision>2</cp:revision>
  <dc:subject/>
  <dc:title>自転車用品事業部の売上は上位5つの販売店で8割をカバーしているため、この5つの販売店に絞って販促を実施する</dc:title>
</cp:coreProperties>
</file>