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E26-DF1F-4816-931B-FE1ED0C8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E5D-3A3A-4F6A-9528-1C291188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DA2-2723-4B80-A23D-5997378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902-E0B5-48C7-8904-39048F49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4AB-9886-49AB-A955-E6432C1D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77A-73AF-4047-8FE5-4A4974A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131-410A-4823-87C1-B5A9F44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131-58E4-44BF-B89C-2E3C06D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FD4-46E8-484B-B1BD-B1CA386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996-5CA8-4838-ABB6-9B0D488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DB2-0F00-44CA-A5B7-5BDCD16D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F50-3837-4D6A-8375-FDF103D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F14-5477-4671-8AFC-B7CD8C98E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発注方法を見直すことによって、大きな在庫の削減が期待できる。在庫回転率の悪い商品については、すぐに発注方法の見直しを行っていく必要が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612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468360" y="4575240"/>
            <a:ext cx="8174160" cy="2255760"/>
          </a:xfrm>
          <a:prstGeom prst="rect">
            <a:avLst/>
          </a:prstGeom>
          <a:ln w="0">
            <a:noFill/>
          </a:ln>
        </p:spPr>
      </p:pic>
      <p:sp>
        <p:nvSpPr>
          <p:cNvPr id="44" name="角丸四角形 5"/>
          <p:cNvSpPr/>
          <p:nvPr/>
        </p:nvSpPr>
        <p:spPr>
          <a:xfrm>
            <a:off x="900000" y="162864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6"/>
          <p:cNvSpPr/>
          <p:nvPr/>
        </p:nvSpPr>
        <p:spPr>
          <a:xfrm rot="10800000">
            <a:off x="3053880" y="4040280"/>
            <a:ext cx="2094120" cy="382320"/>
          </a:xfrm>
          <a:prstGeom prst="triangle">
            <a:avLst>
              <a:gd name="adj" fmla="val 50000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14"/>
          <p:cNvSpPr/>
          <p:nvPr/>
        </p:nvSpPr>
        <p:spPr>
          <a:xfrm>
            <a:off x="914400" y="4422600"/>
            <a:ext cx="444960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ベースのシミュレーショ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9"/>
          <p:cNvSpPr/>
          <p:nvPr/>
        </p:nvSpPr>
        <p:spPr>
          <a:xfrm>
            <a:off x="784080" y="2681280"/>
            <a:ext cx="67676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9"/>
          <p:cNvSpPr/>
          <p:nvPr/>
        </p:nvSpPr>
        <p:spPr>
          <a:xfrm>
            <a:off x="826920" y="5489640"/>
            <a:ext cx="67694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6515640" y="4049640"/>
            <a:ext cx="168156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シミュレーション結果で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実績と比較すると、在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量が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を超える日が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きく減少してい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11:43Z</dcterms:created>
  <dc:creator>Gihyo</dc:creator>
  <dc:description/>
  <dc:language>en-US</dc:language>
  <cp:lastModifiedBy>IAF Consulting Inc.</cp:lastModifiedBy>
  <dcterms:modified xsi:type="dcterms:W3CDTF">2010-09-14T07:51:49Z</dcterms:modified>
  <cp:revision>4</cp:revision>
  <dc:subject/>
  <dc:title>発注方法を見直すことによって、大きな在庫の削減が期待できる。在庫回転率の悪い商品については、すぐに発注方法の見直しを行っていく必要がある。</dc:title>
</cp:coreProperties>
</file>