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74BA-D578-42A4-AD4F-8C2636AC5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9DC3-6853-4207-B023-A78E4ED3C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82BE-D154-44D3-A824-97BA694AD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1629-72A1-4704-9353-3CF5669F5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DD10-BE50-4E9F-A5E4-26971354C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B1B0-BFEE-4B1B-8052-60D6EA65B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81AE-4E5F-4EEF-B657-0F477197B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ED6D-B14F-4601-AD1A-194B94B0A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1D32-FB0D-4E6D-B171-F4BD37788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43D0-77DC-4E84-B5FD-E7395C95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4B0E-1BD3-4A87-95A0-E75CD3C40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C50F-4486-4790-BBCE-E53C783C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09424-9380-4A3C-AA1C-CED5D8C2E22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自転車用品事業部の中で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『</a:t>
            </a: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ウェア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』</a:t>
            </a: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と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『</a:t>
            </a: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シューズ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』</a:t>
            </a: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の売上が著しく伸びている。来期はこの分野の販促を強化し、自転車用品事業部の一層の成長につなげていきたい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611280" y="1538280"/>
            <a:ext cx="7962840" cy="5203800"/>
          </a:xfrm>
          <a:prstGeom prst="rect">
            <a:avLst/>
          </a:prstGeom>
          <a:ln w="0">
            <a:noFill/>
          </a:ln>
        </p:spPr>
      </p:pic>
      <p:sp>
        <p:nvSpPr>
          <p:cNvPr id="43" name="円/楕円 4"/>
          <p:cNvSpPr/>
          <p:nvPr/>
        </p:nvSpPr>
        <p:spPr>
          <a:xfrm rot="19759800">
            <a:off x="1069560" y="3178080"/>
            <a:ext cx="6640560" cy="10810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角丸四角形 5"/>
          <p:cNvSpPr/>
          <p:nvPr/>
        </p:nvSpPr>
        <p:spPr>
          <a:xfrm>
            <a:off x="7466040" y="4797360"/>
            <a:ext cx="793800" cy="432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0T06:29:55Z</dcterms:created>
  <dc:creator>Gihyo</dc:creator>
  <dc:description/>
  <dc:language>en-US</dc:language>
  <cp:lastModifiedBy>Gihyo</cp:lastModifiedBy>
  <dcterms:modified xsi:type="dcterms:W3CDTF">2010-09-14T03:18:59Z</dcterms:modified>
  <cp:revision>1</cp:revision>
  <dc:subject/>
  <dc:title>自転車用品事業部の中で『ウェア』と『シューズ』の売上が著しく伸びている。来期はこの分野の販促を強化し、自転車用品事業部の一層の成長につなげていきたい。</dc:title>
</cp:coreProperties>
</file>