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0D9-B389-4EF9-BD43-AF0A5C51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C33-8568-4BC3-B713-C8B5DC64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6104-68D9-4530-851D-DEDA588E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16E-E8B2-466B-AF19-76E1A437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FAB-1565-4518-A488-2E0EB1D7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A01-D552-492F-92F9-A33E4403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AB7-5E8F-4333-82DD-2D19B62D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420-B6A6-418E-BC88-70D68563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C82-1B01-4137-98D4-EAF49851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DA9-44B7-4627-9FCE-6433F140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19E-8AC3-456B-AA59-27BD27EA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853-DC09-4305-BEB2-20A333A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6A2E-14D8-4BF6-80A3-0BE20739E6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商品ごとの利益金額を考慮した棚割りに変更することによって、棚あたりの利益額を増加させることができ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5820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4"/>
          <p:cNvSpPr/>
          <p:nvPr/>
        </p:nvSpPr>
        <p:spPr>
          <a:xfrm>
            <a:off x="4386240" y="4840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れまですべての商品を均等に並べていたが、線形計画法を使って算出した最適値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うことによって、棚の大きさや並べる商品の種類を変えずに、棚あたりの利益額を増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させることが可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5"/>
          <p:cNvSpPr/>
          <p:nvPr/>
        </p:nvSpPr>
        <p:spPr>
          <a:xfrm>
            <a:off x="4154400" y="2492280"/>
            <a:ext cx="863640" cy="18734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6012000" y="2492280"/>
            <a:ext cx="863640" cy="18734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6"/>
          <p:cNvSpPr/>
          <p:nvPr/>
        </p:nvSpPr>
        <p:spPr>
          <a:xfrm>
            <a:off x="5148360" y="2924280"/>
            <a:ext cx="718920" cy="100944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8"/>
          <p:cNvSpPr/>
          <p:nvPr/>
        </p:nvSpPr>
        <p:spPr>
          <a:xfrm>
            <a:off x="7812000" y="4365720"/>
            <a:ext cx="970200" cy="35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7:53:08Z</dcterms:created>
  <dc:creator>Gihyo</dc:creator>
  <dc:description/>
  <dc:language>en-US</dc:language>
  <cp:lastModifiedBy>a-hirai</cp:lastModifiedBy>
  <dcterms:modified xsi:type="dcterms:W3CDTF">2010-09-14T03:55:55Z</dcterms:modified>
  <cp:revision>2</cp:revision>
  <dc:subject/>
  <dc:title>商品ごとの利益金額を考慮した棚割りに変更することによって、棚あたりの利益額を増加させることができる。</dc:title>
</cp:coreProperties>
</file>