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857A-9E56-4FC9-836E-B9B239F8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EC3-AAD1-49E4-920D-1610E112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4C4C-6459-49E8-9EAC-32E66EA0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D7CC-BD55-4DE3-A4F6-E3768E88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DC5-C408-459E-9FEC-F5A9A1ED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2005-9FD9-427E-8F89-69A1F21C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DE1-2878-4C7D-BE6D-5A4E91F6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DF0-1112-447D-AC36-4838D73E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37AE-6DAF-45C1-BF6B-5FFE1FE5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A38-8088-4A6B-8ACD-1A6A5856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2CD-F35D-4F5A-AC67-52A1A66B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BA8-A852-4038-852A-21ADB6ED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2A72-83EA-4146-AAFD-56298AE494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わが社の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つの事業部のうち、自転車用品事業部が順調に売上を伸ばしてきている。この機に大きな販促を実施し、シェアの拡大を狙っていきた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47760" y="2492280"/>
            <a:ext cx="4649760" cy="3040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5099040" y="1670040"/>
            <a:ext cx="3720960" cy="243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099040" y="4165560"/>
            <a:ext cx="3720960" cy="2432160"/>
          </a:xfrm>
          <a:prstGeom prst="rect">
            <a:avLst/>
          </a:prstGeom>
          <a:ln w="0">
            <a:noFill/>
          </a:ln>
        </p:spPr>
      </p:pic>
      <p:sp>
        <p:nvSpPr>
          <p:cNvPr id="45" name="右矢印 4"/>
          <p:cNvSpPr/>
          <p:nvPr/>
        </p:nvSpPr>
        <p:spPr>
          <a:xfrm rot="21154200">
            <a:off x="971280" y="3215880"/>
            <a:ext cx="3313080" cy="287280"/>
          </a:xfrm>
          <a:prstGeom prst="rightArrow">
            <a:avLst>
              <a:gd name="adj1" fmla="val 50000"/>
              <a:gd name="adj2" fmla="val 5013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右矢印 12"/>
          <p:cNvSpPr/>
          <p:nvPr/>
        </p:nvSpPr>
        <p:spPr>
          <a:xfrm rot="369000">
            <a:off x="5586480" y="2274840"/>
            <a:ext cx="2651040" cy="2732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右矢印 13"/>
          <p:cNvSpPr/>
          <p:nvPr/>
        </p:nvSpPr>
        <p:spPr>
          <a:xfrm>
            <a:off x="5580000" y="4595760"/>
            <a:ext cx="2651040" cy="2732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5"/>
          <p:cNvSpPr/>
          <p:nvPr/>
        </p:nvSpPr>
        <p:spPr>
          <a:xfrm>
            <a:off x="2079360" y="3689280"/>
            <a:ext cx="1415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売上が右肩上がり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がってき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15"/>
          <p:cNvSpPr/>
          <p:nvPr/>
        </p:nvSpPr>
        <p:spPr>
          <a:xfrm>
            <a:off x="6317640" y="2679840"/>
            <a:ext cx="11408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売上が下がっ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き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16"/>
          <p:cNvSpPr/>
          <p:nvPr/>
        </p:nvSpPr>
        <p:spPr>
          <a:xfrm>
            <a:off x="6335280" y="4905360"/>
            <a:ext cx="11408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売上が堅調に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移し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5:11:18Z</dcterms:created>
  <dc:creator>Gihyo</dc:creator>
  <dc:description/>
  <dc:language>en-US</dc:language>
  <cp:lastModifiedBy>Gihyo</cp:lastModifiedBy>
  <dcterms:modified xsi:type="dcterms:W3CDTF">2010-09-14T03:16:28Z</dcterms:modified>
  <cp:revision>3</cp:revision>
  <dc:subject/>
  <dc:title>PowerPoint プレゼンテーション</dc:title>
</cp:coreProperties>
</file>