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42B-EAE0-42F4-B8E7-679BA93D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467-33A6-48CD-92FF-0ED1DD1E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F2A-017F-4E98-80DC-5CE41C6F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78D-F942-495C-81E5-BF5AD260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F64-464A-462C-96AE-A74CFC22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7B9-30D1-4FFA-A59A-15B26D82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1A9-7D62-43CE-B934-49495C5E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A8B-0BEC-40F9-9EDA-05530264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A1D-ABD2-4F06-ACF3-18B18FE7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169-9794-4EB5-9AD5-C3571541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477-1EB5-4353-B727-322912C4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003-D01A-4235-8291-29AE43A1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B020-CB69-4268-86FB-6966683567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上期は広告宣伝費と販売促進費が販売費・一般費の合計の半分ほどを占め、大きな負担となっている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費用削減のためには、広告宣伝費と販売促進費の効果測定を行ない、その効果をきちんと精査していく必要があると思われ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39640" y="1542960"/>
            <a:ext cx="8064720" cy="5270760"/>
          </a:xfrm>
          <a:prstGeom prst="rect">
            <a:avLst/>
          </a:prstGeom>
          <a:ln w="0">
            <a:noFill/>
          </a:ln>
        </p:spPr>
      </p:pic>
      <p:sp>
        <p:nvSpPr>
          <p:cNvPr id="43" name="円/楕円 4"/>
          <p:cNvSpPr/>
          <p:nvPr/>
        </p:nvSpPr>
        <p:spPr>
          <a:xfrm>
            <a:off x="7236000" y="3255840"/>
            <a:ext cx="1368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6366600" y="22971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Calibri"/>
              </a:rPr>
              <a:t>広告宣伝費と販売促進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Calibri"/>
              </a:rPr>
              <a:t>で全体の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右矢印 6"/>
          <p:cNvSpPr/>
          <p:nvPr/>
        </p:nvSpPr>
        <p:spPr>
          <a:xfrm rot="323400">
            <a:off x="4832280" y="3028680"/>
            <a:ext cx="2239920" cy="5284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8"/>
          <p:cNvSpPr/>
          <p:nvPr/>
        </p:nvSpPr>
        <p:spPr>
          <a:xfrm rot="20502600">
            <a:off x="5005080" y="3973320"/>
            <a:ext cx="2239920" cy="52704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7:41:00Z</dcterms:created>
  <dc:creator>Gihyo</dc:creator>
  <dc:description/>
  <dc:language>en-US</dc:language>
  <cp:lastModifiedBy>Gihyo</cp:lastModifiedBy>
  <dcterms:modified xsi:type="dcterms:W3CDTF">2010-09-14T03:43:40Z</dcterms:modified>
  <cp:revision>2</cp:revision>
  <dc:subject/>
  <dc:title>2010年上期は広告宣伝費と販売促進費が販売費・一般費の合計の半分ほどを占め、大きな負担となっている。 費用削減のためには、広告宣伝費と販売促進費の効果測定を行ない、その効果をきちんと精査していく必要があると思われる。</dc:title>
</cp:coreProperties>
</file>