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055-2D85-4BEC-870F-6B776D5A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BBB-1AEB-483F-8FAA-FAFE81F5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14F-9BEB-4628-BF4B-F726C904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F99-9593-44AE-BE53-3BB94ADA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953-0E10-4EC6-BD20-A039B63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E51-9621-4308-9807-492B0CBD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2C5-330A-4DED-AA7D-840E8731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E3F-675E-4507-A81F-6240EF1B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F75-74D9-4A12-A576-17613B5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1B6-FF87-44AE-BC93-F17EB60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962-50C1-41FF-BF9A-7267412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9D3-7EB2-432B-9498-1A0E11A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2D7-E67F-496F-B611-C6B2F4E24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わが社の商品で、缶コーヒーが販売不振に陥っているので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早急にてこ入れ、即ち新製品の投入が必要であ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71000" cy="49690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1936800" y="262728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1930320" y="558972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負け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6256440" y="2625840"/>
            <a:ext cx="4550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花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9"/>
          <p:cNvSpPr/>
          <p:nvPr/>
        </p:nvSpPr>
        <p:spPr>
          <a:xfrm>
            <a:off x="5744520" y="5587920"/>
            <a:ext cx="86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金のなる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6"/>
          <p:cNvSpPr/>
          <p:nvPr/>
        </p:nvSpPr>
        <p:spPr>
          <a:xfrm>
            <a:off x="1793880" y="4292640"/>
            <a:ext cx="502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1"/>
          <p:cNvSpPr/>
          <p:nvPr/>
        </p:nvSpPr>
        <p:spPr>
          <a:xfrm>
            <a:off x="4307040" y="2627280"/>
            <a:ext cx="0" cy="333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右矢印 1"/>
          <p:cNvSpPr/>
          <p:nvPr/>
        </p:nvSpPr>
        <p:spPr>
          <a:xfrm rot="18252600">
            <a:off x="2677320" y="5667480"/>
            <a:ext cx="704520" cy="64008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6:50:17Z</dcterms:created>
  <dc:creator>Gihyo</dc:creator>
  <dc:description/>
  <dc:language>en-US</dc:language>
  <cp:lastModifiedBy>Gihyo</cp:lastModifiedBy>
  <dcterms:modified xsi:type="dcterms:W3CDTF">2010-09-14T03:30:53Z</dcterms:modified>
  <cp:revision>3</cp:revision>
  <dc:subject/>
  <dc:title>わが社の商品で、缶コーヒーが販売不振に陥っているので 早急にてこ入れ、即ち新製品の投入が必要である。</dc:title>
</cp:coreProperties>
</file>