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CFB-E961-4431-80CF-DE8DE7C6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2FC-46BD-4EB6-A86E-09567CE8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A53-5F73-4BD1-859A-603D30AB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2A4-2082-4811-ABD8-1FC36D27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058-35AC-4DE3-B382-0F57140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A6A-740F-4D78-AD3B-700F61D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7FF-AFB0-4084-BA33-346341F6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0F4-F08A-4E74-B6A8-65F8095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59B-D8FC-47D5-87DE-77816D9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0BB-6DE3-4CB5-B8D4-55F6F1A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409-416B-4582-BBF0-26B75D9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781-B4E6-41BB-8DF8-2CF4FAC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189-7237-4811-92B3-9B53B96240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月におい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スイート」は販売の減少が、「ビター」は販売の増加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予測されることがわかった。この分析結果を踏まえ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初期生産量を、「スイート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減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ビター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増と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142920" y="5448240"/>
            <a:ext cx="43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回帰分析の結果によると、気温と販売数量の間には、「スタンダード」では、ほとんど相関関係がないが、「スイート」と「ビター」については、極めて強い相関間関係があ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4643280" y="544824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月の販売数量は前年比で、「スイート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減少、「ビター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増加が予測され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3160" y="2550960"/>
            <a:ext cx="419868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348080" y="2550960"/>
            <a:ext cx="45799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8:35Z</dcterms:created>
  <dc:creator>平井 明夫</dc:creator>
  <dc:description/>
  <dc:language>en-US</dc:language>
  <cp:lastModifiedBy>Gihyo</cp:lastModifiedBy>
  <dcterms:modified xsi:type="dcterms:W3CDTF">2010-09-14T03:34:15Z</dcterms:modified>
  <cp:revision>24</cp:revision>
  <dc:subject/>
  <dc:title>スライド 1</dc:title>
</cp:coreProperties>
</file>