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45C-1894-4C07-9F53-880E5CE6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33B-4F88-4262-8614-D1FD172A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083-65A8-4900-AC78-6CBA9583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7DE-0CC1-4D9E-B08D-37E7F02A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97E-B18D-477F-A205-D1E7E3A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DE3-77ED-425E-B0B8-8937E97E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D94-9064-4126-B50A-84ACD300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7FB-6491-4B52-A34A-A2968BFC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742-C776-439B-BC2D-DC924718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7E8-5D99-4458-A5D6-33C8B65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B0E-23ED-4B93-AA00-CD0B803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1BE-764C-4456-988A-E768A26D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F96E-71C5-46E7-85CD-FE23595DA9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在庫回転率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0”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より低い商品については、発注方法を早急に見直す必要があ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1353960"/>
            <a:ext cx="8353440" cy="545976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1116000" y="4437000"/>
            <a:ext cx="626436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在庫回転率が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3.0”</a:t>
            </a: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より低いも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 rot="18956400">
            <a:off x="6194520" y="610524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 rot="18956400">
            <a:off x="5557680" y="6114960"/>
            <a:ext cx="120816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 rot="18956400">
            <a:off x="4005000" y="6114600"/>
            <a:ext cx="120960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0"/>
          <p:cNvSpPr/>
          <p:nvPr/>
        </p:nvSpPr>
        <p:spPr>
          <a:xfrm rot="18956400">
            <a:off x="2446200" y="6129000"/>
            <a:ext cx="120996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11"/>
          <p:cNvSpPr/>
          <p:nvPr/>
        </p:nvSpPr>
        <p:spPr>
          <a:xfrm rot="18956400">
            <a:off x="905040" y="612900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1:46:09Z</dcterms:created>
  <dc:creator>Gihyo</dc:creator>
  <dc:description/>
  <dc:language>en-US</dc:language>
  <cp:lastModifiedBy>a-hirai</cp:lastModifiedBy>
  <dcterms:modified xsi:type="dcterms:W3CDTF">2010-09-14T03:56:47Z</dcterms:modified>
  <cp:revision>2</cp:revision>
  <dc:subject/>
  <dc:title>在庫回転率が”3.0”より低い商品については、発注方法を早急に見直す必要がある。</dc:title>
</cp:coreProperties>
</file>